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D2B-FD02-4D79-BB7B-6D7462CE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2AD-03B6-40EA-A561-C5E10D0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64A-8E8A-4253-BD42-D86D71E8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1F2-7599-4BBB-9F91-9BA599B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371-BE7D-49A8-B047-FE33B0E9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7C0-4FCF-4031-957A-87FCFD1D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5A4-338B-42BB-853C-76698217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626-80FA-44C0-99BC-C55BCB0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0EF-6613-43D3-8794-C805733F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291-FCC5-420D-A2A0-48A1273D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324-6DA5-4700-88D4-4223C94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223-0AAA-4753-8BF1-08AE80D0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17AC-B328-4CF1-AF53-3A2D9BA6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ry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 rot="10854600">
            <a:off x="2437200" y="4590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 Andrea, Victoria, Cortney, Chris, Maj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2133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1523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8195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rn and needles and buttons and the toady frog and the half knit sweater flew all over the stoop like your guts do after you have been bit by a hoop snake. Chapter-1 Pg: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05320" y="1371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10824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powerful hissing music whistling from a wagon that was throwing fog and songs out of a row of pipes, sounding so hot and hard and pointy that you’d’ve thought you’d took a knife and were scratching at something deep inside your ear. Chapter-9 Pg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05320" y="1447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590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ell all over ourselves and couldn’t barley stand up. Chapter-1 Pg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9880" y="1447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t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2464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ammy gave a long pulled out grown when the mesmerist and most of the folks in the crowed moaned out,      “Sam-u-well, Sam-u-well, Sam-u-well!”  Chapter-9 Pg: 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5760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246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air was all matted up like a birds nest and his clothes were so dirty that not even Cooter would’ve been caught dead in ‘em. Chapter-10 Pg: 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91120" y="1447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32464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it had mashed up against me it I could feel its heart flopping around in its chest like a fish that had got throwed up on the land. Chapter-19 Pg: 2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95480" y="2209680"/>
            <a:ext cx="3200400" cy="2000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90920" y="1371600"/>
            <a:ext cx="373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410080"/>
            <a:ext cx="706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152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932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123rf.com/photo_611641_botanical-green-border-made-of-ivy-leav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9:46:04Z</dcterms:created>
  <dc:creator>SBH</dc:creator>
  <dc:description/>
  <dc:language>en-US</dc:language>
  <cp:lastModifiedBy>SBH</cp:lastModifiedBy>
  <dcterms:modified xsi:type="dcterms:W3CDTF">2011-05-21T21:34:05Z</dcterms:modified>
  <cp:revision>3</cp:revision>
  <dc:subject/>
  <dc:title>Slide 1</dc:title>
</cp:coreProperties>
</file>